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5B79-BA23-467E-B69B-E581C9D6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AF1D-384F-4058-B279-753E2078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A96D-475B-4986-BE96-41E87E2B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228B-3AE8-416E-82E7-D4A12F5B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7A46-6B67-4603-89A5-25EA6A97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4BA0-93FE-42A2-A4B5-75F4C8A5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28BD-C948-4CA1-9507-53BBD635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A0E3-64A3-4808-97BF-4A52168A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F56A-EF98-4498-91AA-AAFCC63A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D36E-07DD-4DF4-BE0F-9882C4F3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9504-7C9B-4C64-BD43-44ABDFB9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E949-3F88-4DF9-AC1D-D4600F26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37D7-F4AF-4876-B760-65B50F02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B65E-5EEC-420C-93E9-74EB64CC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F847-B8F5-4908-A437-D2AA417D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2A72-04F5-40D3-A76B-D0E4F8EC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253A-EFB9-4614-890F-1D62D73A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EE6A-5301-45ED-A6B5-4163B03A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4CD9-7090-4E7D-988B-D86A1F7E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1EC2-8BFD-4290-934B-906F5810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DF0E-6769-43E3-8CA7-4DE4CB16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265A-D36D-4922-A31A-66364565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DAD1-0842-47C5-97C9-5071DE53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7072-332F-4C0B-8473-463ADE12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"/>
              <p:cNvSpPr/>
              <p:nvPr/>
            </p:nvSpPr>
            <p:spPr>
              <a:xfrm>
                <a:off x="5264280" y="4719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495600" y="4078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635280" y="4809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5040" y="5621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21600" y="287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06800" y="32479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3318000">
                <a:off x="3580200" y="2980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94040" y="4735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6018000">
                <a:off x="3123360" y="5648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6283800">
                <a:off x="5399640" y="4840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951200" y="4307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82520" y="4065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46240" y="4740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9469400">
                <a:off x="1174680" y="59130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94040" y="3075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593720" y="32353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18000">
                <a:off x="-113400" y="31582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19080" y="4665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508000">
                <a:off x="-36000" y="5560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6283800">
                <a:off x="1857240" y="45802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92420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55520" y="712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284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14768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867040" y="-30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566720" y="13032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18000">
                <a:off x="297360" y="-174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97000" y="1484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428800">
                <a:off x="-254160" y="2646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6283800">
                <a:off x="2059200" y="1475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24988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481560" y="712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2972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47372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192720" y="-3024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892760" y="130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3318000">
                <a:off x="3184920" y="53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32280" y="167472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428800">
                <a:off x="3071520" y="2646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6283800">
                <a:off x="5385240" y="147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059680" y="1349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08680" y="727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24720" y="1763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86680" y="2479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7640" y="111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3318000">
                <a:off x="6569280" y="-103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3840" y="1479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428800">
                <a:off x="6608880" y="2527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6283800">
                <a:off x="7779240" y="1203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21400">
                <a:off x="8094600" y="4663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08680" y="4079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24720" y="5116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845200">
                <a:off x="8009280" y="5704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05800" y="3211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18000">
                <a:off x="6512400" y="3172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9400" y="50418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6819600">
                <a:off x="6608880" y="57463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283800">
                <a:off x="7283880" y="406152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54080" y="476280"/>
              <a:ext cx="1374840" cy="12621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"/>
              <p:cNvSpPr/>
              <p:nvPr/>
            </p:nvSpPr>
            <p:spPr>
              <a:xfrm>
                <a:off x="216000" y="166320"/>
                <a:ext cx="1253880" cy="11523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34720" y="172800"/>
                <a:ext cx="287640" cy="84564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89a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8440" y="149400"/>
                <a:ext cx="1057320" cy="30924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89aa8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2480" y="460080"/>
                <a:ext cx="682560" cy="66168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cf6f9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7440" y="379080"/>
                <a:ext cx="406080" cy="40284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cf7fa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44F2-510A-4342-8BFE-6AC855031B32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"/>
              <p:cNvSpPr/>
              <p:nvPr/>
            </p:nvSpPr>
            <p:spPr>
              <a:xfrm>
                <a:off x="5261040" y="4746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92360" y="4105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2040" y="4836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41800" y="5648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18360" y="2905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03920" y="32749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3318000">
                <a:off x="3576960" y="3007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0800" y="4762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6018000">
                <a:off x="312012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6283800">
                <a:off x="5396400" y="4867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47960" y="4334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9280" y="4092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3000" y="4767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469400">
                <a:off x="1171440" y="59400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90800" y="3102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0840" y="32623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318000">
                <a:off x="-116640" y="318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-22320" y="4692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5508000">
                <a:off x="-39240" y="5587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6283800">
                <a:off x="1854720" y="4607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20960" y="1380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280" y="739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-3168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4440" y="2587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6380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6384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3318000">
                <a:off x="29412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3760" y="151128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428800">
                <a:off x="-257040" y="2673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283800">
                <a:off x="2056320" y="1502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6640" y="138096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78320" y="739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400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70480" y="2587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8984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8952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3318000">
                <a:off x="3181680" y="80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29040" y="170172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428800">
                <a:off x="3068280" y="2673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6283800">
                <a:off x="5382000" y="1502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8056440" y="1376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05440" y="754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21480" y="1790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83440" y="2506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64400" y="3816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318000">
                <a:off x="6566400" y="-76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70600" y="1506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428800">
                <a:off x="6605640" y="2554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6283800">
                <a:off x="777600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521400">
                <a:off x="8091360" y="4690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05440" y="4106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1480" y="5143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845200">
                <a:off x="8005680" y="57312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02560" y="3238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3318000">
                <a:off x="650916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56520" y="50688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819600">
                <a:off x="6605280" y="577332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283800">
                <a:off x="7280280" y="408816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"/>
              <p:cNvSpPr/>
              <p:nvPr/>
            </p:nvSpPr>
            <p:spPr>
              <a:xfrm rot="17967600">
                <a:off x="356760" y="3306960"/>
                <a:ext cx="1782720" cy="16365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8e8e8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54800" y="2772360"/>
                <a:ext cx="2102040" cy="2152080"/>
                <a:chOff x="154800" y="2772360"/>
                <a:chExt cx="2102040" cy="2152080"/>
              </a:xfrm>
            </p:grpSpPr>
            <p:sp>
              <p:nvSpPr>
                <p:cNvPr id="229" name=""/>
                <p:cNvSpPr/>
                <p:nvPr/>
              </p:nvSpPr>
              <p:spPr>
                <a:xfrm rot="17970000">
                  <a:off x="392040" y="3101040"/>
                  <a:ext cx="1627200" cy="1494360"/>
                </a:xfrm>
                <a:custGeom>
                  <a:avLst/>
                  <a:gdLst/>
                  <a:ahLst/>
                  <a:rect l="l" t="t" r="r" b="b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17970000">
                  <a:off x="560880" y="3728520"/>
                  <a:ext cx="367200" cy="1096920"/>
                </a:xfrm>
                <a:custGeom>
                  <a:avLst/>
                  <a:gdLst/>
                  <a:ahLst/>
                  <a:rect l="l" t="t" r="r" b="b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100000">
                      <a:srgbClr val="b89aa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7970000">
                  <a:off x="-2520" y="3398400"/>
                  <a:ext cx="1379520" cy="360000"/>
                </a:xfrm>
                <a:custGeom>
                  <a:avLst/>
                  <a:gdLst/>
                  <a:ahLst/>
                  <a:rect l="l" t="t" r="r" b="b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89aa8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7970000">
                  <a:off x="870840" y="3358440"/>
                  <a:ext cx="884880" cy="858600"/>
                </a:xfrm>
                <a:custGeom>
                  <a:avLst/>
                  <a:gdLst/>
                  <a:ahLst/>
                  <a:rect l="l" t="t" r="r" b="b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50000">
                      <a:srgbClr val="fcf6f9"/>
                    </a:gs>
                    <a:gs pos="100000">
                      <a:srgbClr val="f5cdd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7970000">
                  <a:off x="661680" y="3655440"/>
                  <a:ext cx="526680" cy="521280"/>
                </a:xfrm>
                <a:custGeom>
                  <a:avLst/>
                  <a:gdLst/>
                  <a:ahLst/>
                  <a:rect l="l" t="t" r="r" b="b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f7fa"/>
                    </a:gs>
                    <a:gs pos="100000">
                      <a:srgbClr val="f5cd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3E54-539D-4F95-9A5A-B2869915616A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7572"/>
                </a:solidFill>
                <a:uFillTx/>
                <a:latin typeface="Arial Narrow"/>
                <a:ea typeface="Times New Roman"/>
              </a:rPr>
              <a:t>Annual Bible Team Quiz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THIS WEDNESDAY </a:t>
            </a:r>
            <a:endParaRPr b="0" lang="en-US" sz="4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21</a:t>
            </a:r>
            <a:r>
              <a:rPr b="1" lang="en-US" sz="4800" spc="-1" strike="noStrike" baseline="30000">
                <a:solidFill>
                  <a:srgbClr val="ff0000"/>
                </a:solidFill>
                <a:latin typeface="Arial Narrow"/>
              </a:rPr>
              <a:t>ST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 JULY</a:t>
            </a:r>
            <a:endParaRPr b="0" lang="en-US" sz="4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@ 7.30PM</a:t>
            </a:r>
            <a:endParaRPr b="0" lang="en-US" sz="4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REGISTER YOUR TEAM TODAY - $10</a:t>
            </a:r>
            <a:endParaRPr b="0" lang="en-US" sz="4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9T04:13:54Z</dcterms:created>
  <dc:creator>John White</dc:creator>
  <dc:description/>
  <dc:language>en-US</dc:language>
  <cp:lastModifiedBy>John White</cp:lastModifiedBy>
  <dcterms:modified xsi:type="dcterms:W3CDTF">2014-03-25T23:07:59Z</dcterms:modified>
  <cp:revision>12</cp:revision>
  <dc:subject/>
  <dc:title>Bible Quiz Mark’s Gospel</dc:title>
</cp:coreProperties>
</file>